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media/image12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E540-1ABA-4C78-893D-138C5938C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69E7-6F8C-4C2E-BAC7-F0B1B922F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5D4508-E3DC-49EF-9141-5F093C5FF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15A3CD-75FB-4C08-BE78-4A39ADB4D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BF102C-7F31-49D6-B884-29C7FBC73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ADBBF2-AC63-4450-A453-E0326CBC1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687604-8A50-49A5-B457-2362D872F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B524C6-F738-4B94-90CB-475497EE4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81F79F-3DAA-482E-B8BC-D523DA335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E47B0C-009B-489F-AEC6-962D6CB7E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EDAAAB-CA61-40BB-A4D7-3152F4C3A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7CD257-CC38-48CA-A42B-BF1C134E8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ADD3-FC8E-484D-A5D0-527C7BCCF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30E8D6-C558-45FE-BCAC-25E06A4DB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EE6910-C170-48DE-8914-B0A3A4B36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EB1158-8A5B-43AE-8057-E9D4DD975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21275B-91BE-432F-8D11-E13FAEDF4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81F8F2-D968-4E78-AA83-4AB1F6A7F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851741-389F-47A1-9D61-BD9814E29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918485-3010-428A-ABB4-41D8EC47B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21F2B5-2DB3-40EC-9CAE-09CBCE43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BD725F-362A-42B5-B00E-02D2D44B7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06132F-2D6F-42F9-A95C-9E8A0241E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3386-80CA-444C-8C14-E733E974E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319221-BC4A-4782-9562-8C02C407D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24233C-5BA2-4F3A-A013-7BB1D6FFF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46F1FE-9B2B-4749-9DA7-262D44AE4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7610EF-F7C8-449C-8277-F76E13F1A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C1C5C4-AE59-49AA-BF2D-35DF43E56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BB8533-F744-481D-B07B-8A1AC11AB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0C6755-4C11-4E6D-8219-7E1971FEB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A52ECE-3DE4-4B43-B987-CA721629F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63BC-322C-4222-94AE-9D9E80685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AE7EF9-6CC8-495A-BDAC-F2E5923F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9FA51D-1A2C-4F6D-9C67-1CF4C172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87FCED-D660-4719-BF90-397A52806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C89952-E021-4BED-B1F3-A3DD07D54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18E6C6-E33C-4D21-9EE4-2146A795E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2869A9-60C4-4D03-8086-A078B92B3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870EDC-C2FA-41F2-B8AF-FCF5E3258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C42A01-796B-49B4-940A-51FF50334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72D71D-D032-4720-8FB7-E418E02B0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3880A6-BC29-4D9B-B0E2-262D9E9C3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807F-75BC-4C68-95BF-B3B6C966E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3F85EF-6F47-4B6F-813D-6D583B871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DD6736-AD0F-4D1B-91C8-4C2BCDDF7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75035D-43A4-4DC9-9120-B06E29205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EF3A56-B75D-4116-8678-F97568E1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04451F-EE1F-4425-BC81-407C5792F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BB23FC-1DE6-46F0-A7E6-078FEE338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C8862C-555D-47CD-9DB8-653FCA9ED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FA98E-EA5D-4E55-AB65-00354BC1E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0290D-9944-4CCB-99D1-2396ADF7D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EB0F9-54F6-4AB0-93BE-D67598854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47D0-8358-4868-B127-2C3969FFF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6B6A3-51FA-4257-ABB9-175BE35EC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FDD8B-E510-4CBF-A202-33101C2FF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014DD-AFE4-4C87-8D66-9E20E804A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9C267-2B34-45E5-8CF7-EF7D36DF8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FD4A8-B1FB-4C0F-81EF-34B55400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DDFC3-FF4D-43D6-9FBD-C626AFDFF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DA0A8-D898-48D3-9194-E9E00A0D4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39ADA-6780-4C60-926F-8A610A756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6788A-195F-4EBD-9D11-F4B821BBC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EE4BE-F96C-48F4-B667-E8608FA69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BAE0-B383-4518-AA3F-79A1928F4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FBC733-AEAE-4071-B748-07F6415F7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AE8BC0-F4BF-46E1-A556-86478B6F7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0F0A1-2CF0-4741-8A8A-73B5919BB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6B6142-F35D-4C78-BEBB-6D840CD3B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BEF47D-5C79-4DAF-B42E-7FE4E8094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46CEC-7656-4422-9A3D-A97F4D65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5AC70-C4B8-40BC-B4E4-B00CBC4D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D42FD1-84F6-40A1-B827-7582EE79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777E2D-9112-4981-8E05-96020D767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68355-FDB0-487E-8399-387AF00D2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975D-CE08-43A0-8548-02C4EFCAF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7964A1-D568-4632-AC7E-E71C9A389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0BF9A6-9DBF-4358-AFFE-FCD22E0D5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8010C1-7130-415D-9916-A57E97888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10A7AD-77BA-4ACB-B6D4-2B46ED8F1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46EC5C-303D-4EC2-901E-60F893081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4163F5-B192-4316-B878-CCAB69FA6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5811CF-BF0F-4607-A3C7-9985D8611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03BAEC-F7F5-4CC1-9EF0-D16F5A8B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B78820-469F-4729-A3B3-CB837CE0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465BEC-89EE-41C1-B9DC-5BD2F7980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E584-223A-4967-87A8-B9AE86CC4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97C7CE-8244-4EB0-806E-ECA2E1E5A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F67238-CDD7-413A-8F6B-9C5ED9570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1D1D32-9CE8-4112-975A-B4B157F59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452CFC-F0A2-449C-B5D6-865BDA7DE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3905C5-7C7F-4339-9CEB-BCA4B2278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AE6249-8AB5-42A0-A8EA-DB47343BA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C77519-F9DD-4D02-9CA0-9D8969BB2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6CA852-E171-45E8-9369-8C3E3B0C9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38701A-D103-4EF6-B478-7FD2A0A55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1CD375-391E-4264-A618-EBE1397C8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4D3F-B8EA-4FAF-A2D0-F7A0F1167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BA49B8-9F9B-4F6F-9566-0D8F95950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040B7E-A0D4-4AAD-9A23-1D7C5EF1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A05928-CD35-46F7-9EF5-959BE26D4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73C382-E22C-4CAD-AC91-54984D60E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CB9023-7C83-436A-86BB-B3356F624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7514D9-2AA1-4CD7-933D-6D66D483D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84034A-2462-4989-B814-4B2580C95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7A1BBC-272E-4AFF-80F3-F23056C90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B436D8-4C41-46D6-9664-DBA6C203E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DDBDC2-0A81-45A0-B9EB-9531094C6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E183-7D90-4B21-B8C5-422AF1137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4AAC34-AB9F-4E86-8669-AF7D1231D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619C31-4DE5-4C8F-AE25-96017128D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F390E8-4686-4A49-B89E-A919816F8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3DB5ED-E3DE-4F2A-91E4-71F8A891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5A7244-9938-4F2E-B352-75D28BD96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688C99-B4DB-4E18-A52B-AA44A6F31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D657AF-4539-4DEE-ADFB-77B6C6545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C55C02-CB40-4F48-81B0-6543A5E4B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69CFF9-CB12-4CEC-A882-C1A327AD8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A3C3A4-B761-4B9F-9509-3F5735501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61CD7-A858-4173-A947-83F2647D99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45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FA2BE-BDD9-4ED5-BD55-765A5931E4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E5B54-20FB-4CA2-827E-B9DBA35B0C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91C9D-B77E-4EE2-AE78-A4FD9E05264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86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87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2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34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35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ftr" idx="1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FF7E2-2D6A-4669-A433-9F5B0CE5B5A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83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87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89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9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57739-16AC-4676-BCD8-69B1079059E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44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48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50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57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C91B5-594D-4469-9A52-1B1FD42ECBF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627B0-F975-4B45-8939-93BD80BEAC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13846-A5EE-4717-9946-9B194DF56E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4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85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F3614-DC02-4302-B64B-15FA1B1238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7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a Zorr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1295280" y="4952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ne By: Jack W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2"/>
          <a:stretch/>
        </p:blipFill>
        <p:spPr>
          <a:xfrm>
            <a:off x="2666880" y="190512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1cb75"/>
                </a:solidFill>
                <a:latin typeface="Times New Roman"/>
              </a:rPr>
              <a:t>La rutina por la mañana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 zorro s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despiert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La se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duerm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enseguid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No se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levant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ensequid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4572000" cy="3059280"/>
          </a:xfrm>
          <a:prstGeom prst="rect">
            <a:avLst/>
          </a:prstGeom>
          <a:ln w="0">
            <a:noFill/>
          </a:ln>
        </p:spPr>
      </p:pic>
      <p:pic>
        <p:nvPicPr>
          <p:cNvPr id="511" name="" descr=""/>
          <p:cNvPicPr/>
          <p:nvPr/>
        </p:nvPicPr>
        <p:blipFill>
          <a:blip r:embed="rId3"/>
          <a:stretch/>
        </p:blipFill>
        <p:spPr>
          <a:xfrm>
            <a:off x="4572000" y="3429000"/>
            <a:ext cx="4572000" cy="3052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a rutina por la mañana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a zorro s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baña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 No se un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ucha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 La zorro s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ava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l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l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 La zorro se cepilla los dientie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6896160" y="3524400"/>
            <a:ext cx="2247840" cy="333360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2"/>
          <a:stretch/>
        </p:blipFill>
        <p:spPr>
          <a:xfrm>
            <a:off x="304920" y="4038480"/>
            <a:ext cx="3504960" cy="262908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3"/>
          <a:stretch/>
        </p:blipFill>
        <p:spPr>
          <a:xfrm>
            <a:off x="3886200" y="4343400"/>
            <a:ext cx="2843280" cy="179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Desayun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zorro se desayuna. Se coga el mousse. Se coma el mousse. No se sienta a la mes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2743200" y="327672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522" name="" descr=""/>
          <p:cNvPicPr/>
          <p:nvPr/>
        </p:nvPicPr>
        <p:blipFill>
          <a:blip r:embed="rId2"/>
          <a:stretch/>
        </p:blipFill>
        <p:spPr>
          <a:xfrm>
            <a:off x="7467480" y="5904000"/>
            <a:ext cx="1676520" cy="954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a rop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 zorro se pone la ropa. Se pone la cap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2"/>
          <a:stretch/>
        </p:blipFill>
        <p:spPr>
          <a:xfrm>
            <a:off x="0" y="2639880"/>
            <a:ext cx="4038480" cy="3337200"/>
          </a:xfrm>
          <a:prstGeom prst="rect">
            <a:avLst/>
          </a:prstGeom>
          <a:ln w="0">
            <a:noFill/>
          </a:ln>
        </p:spPr>
      </p:pic>
      <p:pic>
        <p:nvPicPr>
          <p:cNvPr id="526" name="" descr=""/>
          <p:cNvPicPr/>
          <p:nvPr/>
        </p:nvPicPr>
        <p:blipFill>
          <a:blip r:embed="rId3"/>
          <a:stretch/>
        </p:blipFill>
        <p:spPr>
          <a:xfrm>
            <a:off x="5257800" y="2716200"/>
            <a:ext cx="3886200" cy="32338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 zorro se maquilla. Se pone el maquilla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0" y="3886200"/>
            <a:ext cx="4419720" cy="2971800"/>
          </a:xfrm>
          <a:prstGeom prst="rect">
            <a:avLst/>
          </a:prstGeom>
          <a:ln w="0">
            <a:noFill/>
          </a:ln>
        </p:spPr>
      </p:pic>
      <p:pic>
        <p:nvPicPr>
          <p:cNvPr id="530" name="" descr=""/>
          <p:cNvPicPr/>
          <p:nvPr/>
        </p:nvPicPr>
        <p:blipFill>
          <a:blip r:embed="rId2"/>
          <a:stretch/>
        </p:blipFill>
        <p:spPr>
          <a:xfrm>
            <a:off x="4419720" y="3886200"/>
            <a:ext cx="4724280" cy="2971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8T16:35:11Z</dcterms:created>
  <dc:creator>wicejoh</dc:creator>
  <dc:description/>
  <dc:language>en-US</dc:language>
  <cp:lastModifiedBy>wicejoh</cp:lastModifiedBy>
  <dcterms:modified xsi:type="dcterms:W3CDTF">2012-04-05T15:42:45Z</dcterms:modified>
  <cp:revision>12</cp:revision>
  <dc:subject/>
  <dc:title>Argentina Aventura</dc:title>
</cp:coreProperties>
</file>